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E2C6-03E0-422F-A62E-BA8ED460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32F-EAF9-40FD-9EFB-31F12BFD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5599-9C5E-40FE-A59A-A69E5BF6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255C-09BF-40F9-8D48-7035FF22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C4B-091C-4EF2-A2C1-150D3AFE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F35-A37C-496D-98D5-0E6B7D3F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527-7378-4B18-BB1E-3F88441A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7B2-98AE-4507-B865-2C85FE38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D64-D805-46CB-861B-3C9753EC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ED8-7FA3-41B1-8C56-94CB0C2F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FE5D-3ADD-43CD-9199-D3AEC44F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BEE1-4084-4820-9DCB-B161873F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F150-DE8F-4810-9585-ECD227F28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89000"/>
            <a:ext cx="856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r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- &lt;&lt;¿Qué has hecho hoy?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d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- &lt;&lt;Nada, no me siento bien, he ido al medico esta mañana, pero aparte de eso… Y tú?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r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&lt;&lt;he tenido montón de deberes últimamente, así… No he pasado un buen día, pero bueno… jajaja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d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- &lt;&lt;oye, ¿has visto la nueva película de Almodóvar? ¿Te apetece?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r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- &lt;&lt;No, no lo he visto, pero hace tres semanas fui al cine y vi la nueva de Spielberg. Fue fatal, no me gustó. Pero es que había esta chica… sabes…Pero sí, la nueva de Almodóvar mola.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d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&lt;&lt;Bueno, si te cae bien, ¿por qué no vamos jueves por la noche? He visto un anuncio en una revista y lo ponen en el cine en mi pueblo.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6920" y="1197000"/>
            <a:ext cx="7632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¿Qué has hecho ho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y he estudiado inglés y fisíca- he pasado un día aburrido hasta ah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 he hecho mu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e dormido un po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e hablado con mis amigos y he hecho mis deberes antes de las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155736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spot the new tense- the perfect te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how to form the perfect tense and what it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learn how to form the pluperfect tense and what it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) To practise forming the perfect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) To practise forming the pluperfect te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343240" y="981000"/>
            <a:ext cx="4411440" cy="466560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"/>
              </a:rPr>
              <a:t>perfect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"/>
              </a:rPr>
              <a:t>tens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189000"/>
            <a:ext cx="165564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per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907920"/>
            <a:ext cx="7488360" cy="8254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erfect AND pluperfect are the only tenses which have more than 1 bit in Spa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1989000"/>
            <a:ext cx="7488360" cy="825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ing: 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meaning “I have done”, “I have play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refers to something recent eg that has just 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9000"/>
            <a:ext cx="165564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per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981000"/>
            <a:ext cx="7632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 1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ropriate part of the verb “hab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2276640"/>
            <a:ext cx="3745080" cy="2494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verb in perfect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move infinitive 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ar : + -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ir / -er : +-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189000"/>
            <a:ext cx="165564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per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1125360"/>
            <a:ext cx="13525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25600" y="1916280"/>
            <a:ext cx="2145240" cy="45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lay (jug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24360" y="1916280"/>
            <a:ext cx="2448000" cy="45972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gado - 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20160" y="2565360"/>
            <a:ext cx="2603880" cy="45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retend (fing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2565360"/>
            <a:ext cx="3168720" cy="45972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gido - pret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21600" y="3213000"/>
            <a:ext cx="2620800" cy="45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hope (esper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24360" y="3213000"/>
            <a:ext cx="3095640" cy="45972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perado - 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23440" y="3860640"/>
            <a:ext cx="1927080" cy="45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try (jug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4360" y="3860640"/>
            <a:ext cx="2448000" cy="45972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ntado - 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49600" y="4437000"/>
            <a:ext cx="2823480" cy="82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work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an idea](averigu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360" y="4437000"/>
            <a:ext cx="2448000" cy="8254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eriguado – worked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89000"/>
            <a:ext cx="165564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per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43280" y="476280"/>
            <a:ext cx="338292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irregul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844640"/>
            <a:ext cx="302436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abrir (to open)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cubrir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(to cover)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decir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(to say)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escribir (to write)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hacer (to do / make)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morir (to die)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poner (to put)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romper (to break)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ver (to see)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volver (to return)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1844640"/>
            <a:ext cx="2737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ab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cub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di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escr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h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mu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r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vi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vue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1844640"/>
            <a:ext cx="22320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do /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1413000"/>
            <a:ext cx="1943280" cy="398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ing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6000" y="1413000"/>
            <a:ext cx="1944720" cy="39888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t parti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98320" y="981000"/>
            <a:ext cx="6104520" cy="466560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"/>
              </a:rPr>
              <a:t>pluperfect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"/>
              </a:rPr>
              <a:t>tens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89000"/>
            <a:ext cx="237672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pluscuamper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1268280"/>
            <a:ext cx="69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ctly the same formation as the perfect t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CEPT: instead of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/ has / h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mos / hais / 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2852640"/>
          <a:ext cx="8569080" cy="1677960"/>
        </p:xfrm>
        <a:graphic>
          <a:graphicData uri="http://schemas.openxmlformats.org/drawingml/2006/table">
            <a:tbl>
              <a:tblPr/>
              <a:tblGrid>
                <a:gridCol w="1295280"/>
                <a:gridCol w="1297080"/>
                <a:gridCol w="1152360"/>
                <a:gridCol w="1800360"/>
                <a:gridCol w="1368360"/>
                <a:gridCol w="1655640"/>
              </a:tblGrid>
              <a:tr h="6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250920" y="4797360"/>
            <a:ext cx="7632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ing: I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ay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the furthest tense back in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 used wit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ía terminado mis deberes cuando llamé mi ami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6:44:48Z</dcterms:created>
  <dc:creator>Owner1</dc:creator>
  <dc:description/>
  <dc:language>en-US</dc:language>
  <cp:lastModifiedBy>Owner1</cp:lastModifiedBy>
  <dcterms:modified xsi:type="dcterms:W3CDTF">2008-11-07T10:53:33Z</dcterms:modified>
  <cp:revision>3</cp:revision>
  <dc:subject/>
  <dc:title>Slide 1</dc:title>
</cp:coreProperties>
</file>